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D160-AE0D-41E0-8DAB-CD618749DEA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7556-86D4-4A8C-8819-4CDF62EFFC4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9EB9-A726-47BA-AF01-2624D48D45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5311-F795-48CD-B52B-0CD5964B07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3BD0-6D13-48D3-A40C-83569DD039D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9E0B-E686-4EB2-9295-A98B7A94596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DCAD-7AD6-487F-AEC8-28614DBD9C9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34D3-EFC8-4AE0-8AED-13EC8587E34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E3E8-ED60-42AE-AD0E-A89E225258F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BC98-5B71-4CF2-992A-460CC3B14F3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3C14-394D-42F4-B896-F4E7C54F723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426960" y="374760"/>
            <a:ext cx="3397320" cy="25477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47480" y="2998800"/>
            <a:ext cx="6143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84E9-53F1-4D66-A802-F248B1FA8C2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AE62-544F-4A30-BA8E-B6346B7BF60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CFE0-A8C0-496A-AD2E-79D954BD21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4B05-79FA-4219-9211-DB0AF38B289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8CD2-D2B1-4698-B358-E712C7CD61E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D7FC-AA01-4E7C-A9A3-7C6D577CF44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7015-070A-4C40-8B54-93B4FDD0F7F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A07E-3F0F-40C7-9100-87BC65BE3D0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0295-74F7-4C9E-B22C-23AF0B4CED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4EA7-9997-4C27-BEBE-6A03CCEBAF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EE7F-A607-4887-BB8C-9121AFB717C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53C-135F-4AC3-80FD-1EDF2BA24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4186-FFA7-45A7-A8FD-3E527849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A839-7A9B-4B56-A258-6CDF4A55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A1E-EF03-4D37-9413-CDDB3AE1A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911-5349-4BA7-8A22-6BA5D771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3C9-BA6E-46A3-9C49-604ACCAB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7AEB-6143-4956-B08F-B90FDBAB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EB8F-7071-43F5-BA09-E3ACBC26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4B3-080F-4658-9217-4E1EDA13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B633-2E3F-4C5B-B187-8C324E4A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3B7-4182-41E0-B79A-A4F555B9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861-A2EF-4FCA-9B20-D7111EB9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AFD6-E897-4942-BE2D-027AABBE1086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628280"/>
            <a:ext cx="7846920" cy="20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Caso clinico:</a:t>
            </a:r>
            <a:br>
              <a:rPr sz="4000"/>
            </a:b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il paziente diabetico con insufficienza re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Storia della Nefropatia Diabe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Anomalie strutturali in assenza di alterazioni cliniche (AER norma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Incipient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Microalbuminuria </a:t>
            </a:r>
            <a:r>
              <a:rPr b="0" lang="it-IT" sz="2400" spc="-1" strike="noStrike">
                <a:solidFill>
                  <a:srgbClr val="333399"/>
                </a:solidFill>
                <a:latin typeface="Symbol"/>
                <a:ea typeface="Symbol"/>
              </a:rPr>
              <a:t></a:t>
            </a: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 Ipertensione arteri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Concla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Proteinuria (positiva all’esame urine stand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perten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Declino della filtrazione glomeru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Insufficienza ren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20160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Riduzione del filtrato glomerulare ed elevazione della creati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294760" cy="3095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>
            <a:off x="5364000" y="260280"/>
            <a:ext cx="2772000" cy="809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2484360" y="3716280"/>
            <a:ext cx="2087640" cy="4334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424720" cy="4105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6156360" y="260280"/>
            <a:ext cx="2771640" cy="809640"/>
          </a:xfrm>
          <a:prstGeom prst="rect">
            <a:avLst/>
          </a:prstGeom>
          <a:ln w="0">
            <a:noFill/>
          </a:ln>
        </p:spPr>
      </p:pic>
      <p:sp>
        <p:nvSpPr>
          <p:cNvPr id="72" name="Line 6"/>
          <p:cNvSpPr/>
          <p:nvPr/>
        </p:nvSpPr>
        <p:spPr>
          <a:xfrm>
            <a:off x="1403280" y="2708280"/>
            <a:ext cx="252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476360" y="4508640"/>
            <a:ext cx="43196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403280" y="5445000"/>
            <a:ext cx="252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51512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obl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445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Qual è la natura della nefropat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3399"/>
                </a:solidFill>
                <a:uFillTx/>
                <a:latin typeface="Arial"/>
              </a:rPr>
              <a:t>Quanto è  ridotta la funzionalità ren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Il compenso metabolico (glicemico e lipidico) è soddisfac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La terapia farmacologica per l’iperglicemia  è appropri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me impostare la terapia nutriz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me adeguare la terapia antidiabe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5"/>
          <p:cNvGrpSpPr/>
          <p:nvPr/>
        </p:nvGrpSpPr>
        <p:grpSpPr>
          <a:xfrm>
            <a:off x="611280" y="455760"/>
            <a:ext cx="7921440" cy="6311880"/>
            <a:chOff x="611280" y="455760"/>
            <a:chExt cx="7921440" cy="6311880"/>
          </a:xfrm>
        </p:grpSpPr>
        <p:sp>
          <p:nvSpPr>
            <p:cNvPr id="79" name="Rectangle 4"/>
            <p:cNvSpPr/>
            <p:nvPr/>
          </p:nvSpPr>
          <p:spPr>
            <a:xfrm>
              <a:off x="611280" y="455760"/>
              <a:ext cx="7921440" cy="63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3399"/>
                  </a:solidFill>
                  <a:latin typeface="Arial"/>
                </a:rPr>
                <a:t>Nell'anziano la creatininemia da sola non è un indice attendibile del filtrato glomerulare, occorre pertanto utilizzare una formula per calcolare il filtrato glomerulare. La </a:t>
              </a:r>
              <a:r>
                <a:rPr b="1" lang="it-IT" sz="2400" spc="-1" strike="noStrike" u="sng">
                  <a:solidFill>
                    <a:srgbClr val="333399"/>
                  </a:solidFill>
                  <a:uFillTx/>
                  <a:latin typeface="Arial"/>
                </a:rPr>
                <a:t>formula di Cockroft e Gault,</a:t>
              </a:r>
              <a:r>
                <a:rPr b="1" lang="it-IT" sz="2400" spc="-1" strike="noStrike">
                  <a:solidFill>
                    <a:srgbClr val="333399"/>
                  </a:solidFill>
                  <a:latin typeface="Arial"/>
                </a:rPr>
                <a:t> che tiene conto di peso (masse muscolari), età e sesso, si correla con ottima approssimazione al filtrato misurato con la clearance dell'inulin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Clearance creatinina calcolata 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(140 - età) x peso (K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x 0.85 per le donne</a:t>
              </a:r>
              <a:br>
                <a:rPr sz="2400"/>
              </a:b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72 x creatinina (mg/dl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3399"/>
                  </a:solidFill>
                  <a:latin typeface="Arial"/>
                </a:rPr>
                <a:t>Nel nostro caso il filtrato glomerulare calcolato è 28.96 ml/m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7"/>
            <p:cNvSpPr/>
            <p:nvPr/>
          </p:nvSpPr>
          <p:spPr>
            <a:xfrm>
              <a:off x="1692360" y="4869000"/>
              <a:ext cx="3166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8610480" cy="403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2"/>
          <a:stretch/>
        </p:blipFill>
        <p:spPr>
          <a:xfrm>
            <a:off x="5796000" y="260280"/>
            <a:ext cx="2771640" cy="809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468360" y="4005360"/>
            <a:ext cx="8136000" cy="43164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51512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obl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445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Qual è la natura della nefropat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Quanto è  ridotta la funzionalità ren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3399"/>
                </a:solidFill>
                <a:uFillTx/>
                <a:latin typeface="Arial"/>
              </a:rPr>
              <a:t>Il compenso metabolico (glicemico e lipidico) è soddisfac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La terapia farmacologica per l’iperglicemia  è appropri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me impostare la terapia nutriz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me adeguare la terapia antidiabe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7505640" cy="3872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600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195640" y="2811600"/>
            <a:ext cx="6132240" cy="3930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3097080" cy="24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obl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445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Qual è la natura della nefropat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Quanto è  ridotta la funzionalità ren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Il compenso metabolico (glicemico e lipidico) è soddisfac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3399"/>
                </a:solidFill>
                <a:uFillTx/>
                <a:latin typeface="Arial"/>
              </a:rPr>
              <a:t>La terapia farmacologica per l’iperglicemia  è appropri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me impostare la terapia nutriz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me adeguare la terapia antidiabe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915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Diagnosi di Diabete tipo 2 nel 2004 sempre trattato con antidiabetici o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Ipertensione arteriosa in terapia farmacologica dal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Arial"/>
              </a:rPr>
              <a:t>Cardiopatia ischemica post infartuale (IMA inferiore nel 2002) trattata con angioplastica + posizionamento di 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99"/>
                </a:solidFill>
                <a:latin typeface="Arial"/>
              </a:rPr>
              <a:t>Anamnesi patologica remo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685800" y="476280"/>
            <a:ext cx="7702560" cy="5257440"/>
            <a:chOff x="685800" y="476280"/>
            <a:chExt cx="7702560" cy="5257440"/>
          </a:xfrm>
        </p:grpSpPr>
        <p:pic>
          <p:nvPicPr>
            <p:cNvPr id="94" name="Picture 3" descr=""/>
            <p:cNvPicPr/>
            <p:nvPr/>
          </p:nvPicPr>
          <p:blipFill>
            <a:blip r:embed="rId1"/>
            <a:stretch/>
          </p:blipFill>
          <p:spPr>
            <a:xfrm>
              <a:off x="685800" y="476280"/>
              <a:ext cx="7664400" cy="319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4" descr=""/>
            <p:cNvPicPr/>
            <p:nvPr/>
          </p:nvPicPr>
          <p:blipFill>
            <a:blip r:embed="rId2"/>
            <a:stretch/>
          </p:blipFill>
          <p:spPr>
            <a:xfrm>
              <a:off x="685800" y="3831480"/>
              <a:ext cx="7702560" cy="190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6" name="Group 7"/>
          <p:cNvGrpSpPr/>
          <p:nvPr/>
        </p:nvGrpSpPr>
        <p:grpSpPr>
          <a:xfrm>
            <a:off x="684360" y="476280"/>
            <a:ext cx="7702560" cy="5257440"/>
            <a:chOff x="684360" y="476280"/>
            <a:chExt cx="7702560" cy="5257440"/>
          </a:xfrm>
        </p:grpSpPr>
        <p:pic>
          <p:nvPicPr>
            <p:cNvPr id="97" name="Picture 8" descr=""/>
            <p:cNvPicPr/>
            <p:nvPr/>
          </p:nvPicPr>
          <p:blipFill>
            <a:blip r:embed="rId3"/>
            <a:stretch/>
          </p:blipFill>
          <p:spPr>
            <a:xfrm>
              <a:off x="684360" y="476280"/>
              <a:ext cx="7664400" cy="319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9" descr=""/>
            <p:cNvPicPr/>
            <p:nvPr/>
          </p:nvPicPr>
          <p:blipFill>
            <a:blip r:embed="rId4"/>
            <a:stretch/>
          </p:blipFill>
          <p:spPr>
            <a:xfrm>
              <a:off x="684360" y="3831480"/>
              <a:ext cx="7702560" cy="1902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Picture 6" descr=""/>
          <p:cNvPicPr/>
          <p:nvPr/>
        </p:nvPicPr>
        <p:blipFill>
          <a:blip r:embed="rId5"/>
          <a:stretch/>
        </p:blipFill>
        <p:spPr>
          <a:xfrm>
            <a:off x="5764320" y="0"/>
            <a:ext cx="3379680" cy="873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0"/>
          <p:cNvSpPr/>
          <p:nvPr/>
        </p:nvSpPr>
        <p:spPr>
          <a:xfrm>
            <a:off x="611280" y="3716280"/>
            <a:ext cx="8137440" cy="20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914400" y="2181240"/>
            <a:ext cx="7329600" cy="2965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2"/>
          <a:stretch/>
        </p:blipFill>
        <p:spPr>
          <a:xfrm>
            <a:off x="5796000" y="260280"/>
            <a:ext cx="2771640" cy="809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51512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86920" y="188640"/>
            <a:ext cx="730260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ulfoniluree</a:t>
            </a: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333399"/>
                </a:solidFill>
                <a:latin typeface="Comic Sans MS"/>
              </a:rPr>
              <a:t>e derivati Meglitinide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1413000"/>
          <a:ext cx="8569080" cy="4995720"/>
        </p:xfrm>
        <a:graphic>
          <a:graphicData uri="http://schemas.openxmlformats.org/drawingml/2006/table">
            <a:tbl>
              <a:tblPr/>
              <a:tblGrid>
                <a:gridCol w="2081160"/>
                <a:gridCol w="2271600"/>
                <a:gridCol w="1646280"/>
                <a:gridCol w="1263600"/>
                <a:gridCol w="1306440"/>
              </a:tblGrid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ome commercia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osagg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Eliminazi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urata d</a:t>
                      </a: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’</a:t>
                      </a: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zi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Glibenclam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Gliben, Euglucon, Daonil, Glibome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Gliconorm, Suguan M, Glicorest, Bieuglucon M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.5-20 mg/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0% R 50% B</a:t>
                      </a:r>
                      <a:r>
                        <a:rPr b="1" lang="it-IT" sz="2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4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Glipiz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Minidi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.5-20 mg/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80% R 20%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8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Gliclaz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Diamicron, Diabrez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0-240 mg/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70% R 30%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2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Gliquidon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Gluren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30-90 mg/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6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Glimepir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maryl, So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-4 mg/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24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Repaglinide*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Novono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1.5-6 mg(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4 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5616720" cy="5329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2"/>
          <a:stretch/>
        </p:blipFill>
        <p:spPr>
          <a:xfrm>
            <a:off x="5764320" y="0"/>
            <a:ext cx="3379680" cy="8730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1116000" y="4508640"/>
            <a:ext cx="5400720" cy="86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obl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445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Qual è la natura della nefropat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Quanto è  ridotta la funzionalità ren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Il compenso metabolico (glicemico e lipidico) è soddisfac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La terapia farmacologica per l’iperglicemia  è adegu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3399"/>
                </a:solidFill>
                <a:uFillTx/>
                <a:latin typeface="Arial"/>
              </a:rPr>
              <a:t>Come impostare la terapia nutriz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me adeguare la terapia antidiabe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2144880" y="1268280"/>
            <a:ext cx="4371840" cy="532944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7"/>
          <p:cNvGrpSpPr/>
          <p:nvPr/>
        </p:nvGrpSpPr>
        <p:grpSpPr>
          <a:xfrm>
            <a:off x="1547640" y="1844640"/>
            <a:ext cx="5988240" cy="2808360"/>
            <a:chOff x="1547640" y="1844640"/>
            <a:chExt cx="5988240" cy="2808360"/>
          </a:xfrm>
        </p:grpSpPr>
        <p:pic>
          <p:nvPicPr>
            <p:cNvPr id="113" name="Picture 6" descr=""/>
            <p:cNvPicPr/>
            <p:nvPr/>
          </p:nvPicPr>
          <p:blipFill>
            <a:blip r:embed="rId2"/>
            <a:stretch/>
          </p:blipFill>
          <p:spPr>
            <a:xfrm>
              <a:off x="1606680" y="1930320"/>
              <a:ext cx="5929200" cy="27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5"/>
            <p:cNvSpPr/>
            <p:nvPr/>
          </p:nvSpPr>
          <p:spPr>
            <a:xfrm>
              <a:off x="1547640" y="1844640"/>
              <a:ext cx="5977080" cy="280836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5" name="Picture 8" descr=""/>
          <p:cNvPicPr/>
          <p:nvPr/>
        </p:nvPicPr>
        <p:blipFill>
          <a:blip r:embed="rId3"/>
          <a:stretch/>
        </p:blipFill>
        <p:spPr>
          <a:xfrm>
            <a:off x="5940360" y="189000"/>
            <a:ext cx="2772000" cy="809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4"/>
          <a:stretch/>
        </p:blipFill>
        <p:spPr>
          <a:xfrm>
            <a:off x="395280" y="189000"/>
            <a:ext cx="515160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84872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obl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445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Qual è la natura della nefropat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Quanto è  ridotta la funzionalità ren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Il compenso metabolico (glicemico e lipidico) è soddisfac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La terapia farmacologica per l’iperglicemia  è adegu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me impostare la terapia nutriz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3399"/>
                </a:solidFill>
                <a:uFillTx/>
                <a:latin typeface="Arial"/>
              </a:rPr>
              <a:t>Come adeguare la terapia antidiabe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99"/>
                </a:solidFill>
                <a:latin typeface="Arial"/>
              </a:rPr>
              <a:t>Adeguare la terapia antidiabet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Sospendere metformina e glibenclam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Possibili altern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un farmaco secretagogo ad eliminazione epatica (es. repaglinide) da sol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un farmaco secretagogo ad eliminazione epatica (es Repaglinide) + insulina basa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terapia insulinica multiniettiva (insulina basale + insulina rapida ai pasti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Arial"/>
              </a:rPr>
              <a:t>Aggiornamento terap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Nuovo schema terapeut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Repaglinide 1 mg 1 cp x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Insulina basale 10 u la sera (da titol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Metoprololo 100 mg ½ cp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Simvastatina 20 mg 1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ASA 100 mg 1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Ramipril 5 mg 1 cp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Anamnesi patologica rec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42800" y="1492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ESAME OBIETTIV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Peso 79 kg - Alt   170 cm - BMI 27.3 kg/m</a:t>
            </a:r>
            <a:r>
              <a:rPr b="1" lang="it-IT" sz="2400" spc="-1" strike="noStrike" baseline="30000">
                <a:solidFill>
                  <a:srgbClr val="333399"/>
                </a:solidFill>
                <a:latin typeface="Arial"/>
              </a:rPr>
              <a:t>2 </a:t>
            </a: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 - circ. vita 102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PA: 125/80 mmH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Obiettività cardiaca e polmonare n.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Arial"/>
              </a:rPr>
              <a:t>Non soffi sulle carotidi, polsi periferici presenti e di normale ampi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Glicemia effettuata a digiuno 139 mg/d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doneità alla mans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2349360"/>
            <a:ext cx="8229600" cy="288000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6600" spc="-1" strike="noStrike">
                <a:solidFill>
                  <a:srgbClr val="000000"/>
                </a:solidFill>
                <a:latin typeface="Arial"/>
              </a:rPr>
              <a:t>Spunti critic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Breve sintesi della mans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vora da circa 20 anni in ceramica e dopo essere passato per diverse mansioni attualmente lavora nel reparto MANUTENZIONE come MECCA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mansione comporta occuparsi della manutenzione nei vari reparti coprendo le 24 ore di tutti i giorni dell’anno Possibile che in turno capiti di lavorare in coppia in piccole squadre o  da sol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ono essere utilizzati anche piccoli utensili  o trasferendo il pezzo per la riparazioni in officina  dopo smontagg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schi :  rumore, piccole opere di saldatura, trapanatura ,segatrici, uso di sostanze chimiche per sgrassaggio pulitura  lubrificazione verniciatura dei pezzi . Turni. Posture incongrue. Fatica fisica. Stress psicologico da emergenz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doneità alla mans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a valut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posizione a sostanze chim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voro in tu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voro da s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atica fi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cursione ter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ami bioumora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ventuale consulenza specialis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Idoneità alla mans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doneità con prescr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iodicità della visita succes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e integrarsi con le altre figure mediche interessate alla tutela della salute del lavoratore diabe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se ripresenta un evento cardiaco maggio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 se va in dialis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Esami di laborato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Esami di laborato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HbA1c 7.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Creatinina 2.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Es. urine 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Microalbumina urinaria 10 mg</a:t>
            </a:r>
            <a:r>
              <a:rPr b="1" lang="it-IT" sz="2800" spc="-1" strike="noStrike">
                <a:solidFill>
                  <a:srgbClr val="333399"/>
                </a:solidFill>
                <a:latin typeface="Arial"/>
                <a:ea typeface="Arial"/>
              </a:rPr>
              <a:t>/g di creati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Colesterolo tot 178 mg/dl, HDLC 50 mg/dl, Trigliceridi 150 mg/dl, LDLC 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Na 140 mEq/l,   </a:t>
            </a:r>
            <a:r>
              <a:rPr b="1" lang="it-IT" sz="2800" spc="-1" strike="noStrike" u="sng">
                <a:solidFill>
                  <a:srgbClr val="333399"/>
                </a:solidFill>
                <a:uFillTx/>
                <a:latin typeface="Arial"/>
              </a:rPr>
              <a:t>K   5,6 mEq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Ca  9.5 mg/dl,   </a:t>
            </a:r>
            <a:r>
              <a:rPr b="1" lang="it-IT" sz="2800" spc="-1" strike="noStrike" u="sng">
                <a:solidFill>
                  <a:srgbClr val="333399"/>
                </a:solidFill>
                <a:uFillTx/>
                <a:latin typeface="Arial"/>
              </a:rPr>
              <a:t>P  5.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333399"/>
                </a:solidFill>
                <a:latin typeface="Arial"/>
              </a:rPr>
              <a:t>Terapia in co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Arial"/>
              </a:rPr>
              <a:t>Il paziente è in terapia 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Associazione precostituita Glibenclamide 5 mg + Metformina 400 mg 1 cp x 3 al d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Metformina 500 1 cp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Metoprololo 100 mg ½ cp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Simvastatina 20 mg 1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ASA 100 mg 1 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99"/>
                </a:solidFill>
                <a:latin typeface="Arial"/>
              </a:rPr>
              <a:t>Ramipril 5 mg 1 cp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Arial"/>
              </a:rPr>
              <a:t>Esami Strumentali e Diario Glice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Esami strument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Fundus oculi: Non segni di Retinopatia diabe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ECG: ritmo sinusale, esiti di infarto inferi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ECO Doppler TSA: stenosi carotidea bilaterale (35 % a dx, 45% a 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Diario glice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Arial"/>
              </a:rPr>
              <a:t>Il paziente mostra il diario che evidenzia glicemie a digiuno e pre-prandiali variabili fra 100 e 125 mg/dl e glicemie post-prandiali intorno a 200 mg/dl; in tarda mattina e tardo pomeriggio il paziente ha però esperienza di episodi di ipoglicemia sintoma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99"/>
                </a:solidFill>
                <a:latin typeface="Arial"/>
              </a:rPr>
              <a:t>Inchiesta aliment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Introito calorico medio: 2300 kcal/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Introito proteico medio: 100 g/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Introito di NaCl: 12 g/d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99"/>
                </a:solidFill>
                <a:latin typeface="Arial"/>
              </a:rPr>
              <a:t>Proble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4452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333399"/>
                </a:solidFill>
                <a:uFillTx/>
                <a:latin typeface="Arial"/>
              </a:rPr>
              <a:t>Qual è la natura della nefropat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Quanto è  ridotta la funzionalità rena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Il compenso metabolico (glicemico e lipidico) è soddisfac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La terapia farmacologica per l’iperglicemia  è appropri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me impostare la terapia nutriziona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me adeguare la terapia antidiabe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natura probabile della nefropatia 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13336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abet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Vascol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altre ca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07:55:25Z</dcterms:created>
  <dc:creator> </dc:creator>
  <dc:description/>
  <dc:language>en-US</dc:language>
  <cp:lastModifiedBy>Giandomenico</cp:lastModifiedBy>
  <dcterms:modified xsi:type="dcterms:W3CDTF">2012-03-20T20:37:03Z</dcterms:modified>
  <cp:revision>63</cp:revision>
  <dc:subject/>
  <dc:title>Diapositiva 1</dc:title>
</cp:coreProperties>
</file>